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6702A-C941-4A2D-9B48-F4CDE812B0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A7304-7B05-4567-99E0-D7C9D6A326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1AEC5-4C18-44BC-9DFF-9DB738A73C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456FC-F19F-42AF-8F7C-5D42F31573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4F1D71-3964-4400-B4EC-B4A40299F1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CB0B3-82D6-4B73-A0DC-AADF9CE35A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D25CB-C2CA-448B-9704-1F84DF5A0A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4EB7D-BB55-4814-98FA-D5092783A6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17094-FB42-4FDA-9079-A0ACB547A8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D1F6B-62BC-4C49-856E-50E03453D6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655E46-72FE-43EE-BEFB-6FBE5F9F23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7FA0F-51B9-4D43-A4E1-6B3212DA9E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59F40-7DA5-4C17-9DB7-56EA8182A5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211B3-FF15-4222-8906-FE7EBF35B9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7254E-379F-4B4A-9840-B540261ACD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6418A-39FF-4047-B1FE-DC58041334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6F332-E310-4D81-B39D-9E9C331B9E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6C918-9356-42BD-8805-268BB506C3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74127-02CD-42B6-A377-732CCB219F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03221-C0D6-4563-9798-82BB5115AF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40A63-BA2A-4BBA-8101-B9ABA5E419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433DC-F319-4F57-B496-FBADFA4DEE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909A6-E20A-42E9-81E1-4E81D2BAEE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C8654-C92B-47EC-B97A-14D55FA0EE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AFB8BEC-7950-4EEF-B786-F9FB26BD3EE9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A2326E1-81D1-4D5B-9CFD-3F1A4E07B3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5FCE1E88-4812-4F6B-87FD-1BE81ABFACA8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A2B9E1CC-CEF8-426D-84DD-488333C9A52F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886200" y="5334120"/>
            <a:ext cx="45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2 task-group pairs have equal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604360" cy="2547720"/>
          </a:xfrm>
          <a:prstGeom prst="rect">
            <a:avLst/>
          </a:prstGeom>
          <a:ln w="0">
            <a:noFill/>
          </a:ln>
        </p:spPr>
      </p:pic>
      <p:sp>
        <p:nvSpPr>
          <p:cNvPr id="145" name="Oval 9"/>
          <p:cNvSpPr/>
          <p:nvPr/>
        </p:nvSpPr>
        <p:spPr>
          <a:xfrm>
            <a:off x="7308720" y="299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 flipV="1">
            <a:off x="6659640" y="4221000"/>
            <a:ext cx="1441440" cy="1152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157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169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4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2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8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41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47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66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70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274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89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93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9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00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4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2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54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7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28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8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3-07-18T12:34:18Z</dcterms:modified>
  <cp:revision>364</cp:revision>
  <dc:subject/>
  <dc:title>No Slide Title</dc:title>
</cp:coreProperties>
</file>